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AF8-F85F-41A7-B78E-84AF318A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164-5473-495A-866A-0BDB4CAF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4BA-468B-4384-9F84-5CEB83D4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5AF-E75D-4F31-B493-9F0B2635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21C-39C9-41AE-BCF6-05613DD5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1D4-DA26-48DD-AEEA-7F8061C5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568-8C77-4087-A155-667F34A3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25D-9006-47C1-BC1D-853AD2C4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299-A0B6-4DE0-9252-3C039BAC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705-297D-4EB6-8D0D-11351F4D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200-3ADA-4803-9717-478E78F2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E3A-D508-4AA2-9A28-DAB4A007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2099-A7D5-4713-8770-109F2E724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th Americ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9360">
            <a:solidFill>
              <a:srgbClr val="3333cc"/>
            </a:solidFill>
            <a:prstDash val="lgDashDot"/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by: Emily Sturz &amp; Shelby Hat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17220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rgentinachileflyfishing.com/andes-mountain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mate:varies with altitude; humid and tropical to cold and semiarid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andforms: rugged Andes Mountains with a highland plateau, hills, lowland plains of the Amazon Basi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sources: iron, hydropower, lead, tin, natural gas , silver, zinc, tungsten, antimony, gold, wood, petroleu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 has a total area of 1,098,580 sq km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.78% of the land is arab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 is a landlocked country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34320" y="6583320"/>
            <a:ext cx="400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nasa.gov/images/content/60900main_amazon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mate: tropical along coast and eastern plains; cooler in highlan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ndforms: flat coastal lowlands, central highlands, high Andes Mountains, eastern lowland plai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ources: petroleum, natural gas, coal, iron ore, nickel, gold, copper, emeralds, hydropow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has a total area of 1,138,910 sq k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01% of the land is ar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571840"/>
            <a:ext cx="600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31440" y="6248520"/>
            <a:ext cx="576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ntent.answers.com/main/content/wp/en/thumb/b/b1/425px-Hudson_Highland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nezue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mate: tropical; hot, humid; more moderate in highlan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ndforms: Andes Mountains and Maracaibo Lowlands in northwest; central plains (llanos); Guiana Highlands in southeas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ources: petroleum, natural gas, iron ore, gold, bauxite, other minerals, hydropower, diamon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has a total area of 912,050 sq k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85% of the land is ar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65880" y="6324480"/>
            <a:ext cx="50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etalvortex.com/myphotos/south_america/images/DSCN2020a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55e9f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1981080"/>
          <a:ext cx="6460920" cy="41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6460920" cy="411120"/>
                  </a:xfrm>
                  <a:prstGeom prst="rect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62120" y="2514600"/>
          <a:ext cx="7238880" cy="460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514600"/>
                    <a:ext cx="7238880" cy="460440"/>
                  </a:xfrm>
                  <a:prstGeom prst="rect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ies and Their Capit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entina-Buenos 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zil-Brasi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e-Santi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u-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guay-Asu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uguay-Monte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uador-Qu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livia-La Pa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mbia-Bog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ezuela-Cara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French Guyana-Caye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uriname-Parramari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Guyana-Georget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21560" y="6583320"/>
            <a:ext cx="511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ravelbug.org.uk/wp-content/uploads/2006/03/MapSouthAmerica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mate: mostly temperate; arid in southeast; subantarctic in southw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forms: It is home to Patagonia in the South, and Andes along the Western B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n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tile plains, uranium, lead, manganese, zinc, copper, iron ore, petrole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has a total area of 2,766,890 sq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03% of the land is a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0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37120" y="6583320"/>
            <a:ext cx="43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dventuresforsingles.com/images/Patagonia%20185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mate: mostly tropical, but temperate in sou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forms: Its home to the Amazon basin. Its mostly flat to rolling lowlands in north; some plains, hills, mountains, and narrow coastal be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: petroleum, bauxite, gold, phosphates, iron ore, manganese, nickel, platinum, uranium, tin, hydropower, w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has a total area of 8,511,965 sq k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93% of the land is a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landlo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55560" y="6583320"/>
            <a:ext cx="48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reifne.ie/images/SCM_ZO_L_M_MB_Drumcondra_castle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mate: temperate; cool and damp in south; desert in north; Mediterranean in central reg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ndforms: low coastal mountains; fertile central valley; rugged Andes in eas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ources: nitrates, copper, wood, iron ore, molybdenum precious metals,, hydropow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has a total area of 756,950 sq k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62% of the land is ar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7194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2800" y="6324480"/>
            <a:ext cx="820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imagesource.allposters.com/images/pic/NGSPOD04/107877~Stormy-View-of-an-Inlet-Along-the-Coast-of-Chile-Poster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mate: varies from tropical in east to dry desert in west; temperate to frigid in And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ndforms: western coastal plain, high and rugged Andes in center, eastern lowland jungle of Amazon Bas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ources: copper, silver, gold, petroleum, timber, fish, iron ore, coal, phosphate, potash, hydropower, natural g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has a total area of 1,285,220 sq k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88% of the land is ar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37640" y="6400800"/>
            <a:ext cx="353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sertvoice.org/Desert/Image/Desert1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gu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mate: subtropical to temperate; substantial rainfall in the eastern portions, becoming semiarid in the far w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dforms: grassy plains and wooded hills east of Rio Paraguay; Gran Chaco region west of Rio Paraguay mostly low, marshy plain near the river, and dry fo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ources: hydropower, timber, iron ore, manganese, limest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has a total area of 406,750 sq k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.47% of the land is ar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is landlock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36200" y="2719440"/>
            <a:ext cx="38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hotoatlas.com/photo/paraguay_river_sunset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60080" y="6324480"/>
            <a:ext cx="38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hotoatlas.com/photo/paraguay_river_sunset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mate:warm temperate; freezing temperatures almost unknow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ndforms: mostly rolling plains and low hills; fertile coastal lowla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ources: arable land, hydropower, minor minerals, fisheri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has a total area of 176,220 sq k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7.77% of the land is ar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9040" y="6400800"/>
            <a:ext cx="543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idport.com/RefLib/WorldGeography/Germany/Images/CountrySid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mate: tropical along coast, becoming cooler inland at higher elevations; tropical in Amazonian jungle lowlan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ndforms: coastal plain, inter-Andean central highlands, and flat to rolling eastern jung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ources: fish, petroleum, wood, hydropow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has a total area of 283,560 sq k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71% of the land is ar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93000" y="6400800"/>
            <a:ext cx="374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cuador-travel.net/amazonscenery-sumaco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21:00:51Z</dcterms:created>
  <dc:creator>Jeffrey Hatcher</dc:creator>
  <dc:description/>
  <dc:language>en-US</dc:language>
  <cp:lastModifiedBy>Jeffrey Hatcher</cp:lastModifiedBy>
  <dcterms:modified xsi:type="dcterms:W3CDTF">2007-05-17T00:23:20Z</dcterms:modified>
  <cp:revision>2</cp:revision>
  <dc:subject/>
  <dc:title>South American  Geography</dc:title>
</cp:coreProperties>
</file>